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B0C-98EE-4461-8CDD-2604F7817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030C8-8806-4F8A-9D90-841E19916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73C9C-1208-4E82-8B17-A67A071DC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A3D4C6-323D-44D6-853E-35241777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E6ECF-268A-4735-8F98-BDC8624B1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7FAF6-F6DC-4059-AE2E-40E0B6E72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993753-DEFC-47EF-A332-BF43E1CF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3FBF82-650F-4B8D-99B0-BA4AD527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B81F0A-5A1E-4D97-9B30-5F457EE8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68E5D-C748-4101-9C3C-B85BCF45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D7D77D-3776-4440-BE37-BE287DD95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D6EA50-C693-40B7-9C58-8D5A3064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C529-7758-4D2D-9529-BBC8B866F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D3EF94-73B4-413A-80F5-5314F2896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8CAE8B-8CAD-47D7-AD96-B82492AB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6AAB7-20B0-4FF3-96B6-BBCA92E39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16A7EE-0282-498B-B76F-F801117A6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3A4894-7AAD-459D-8C66-EA95E5DA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01F470-D6CD-46C0-8AC6-C2CBEBAB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A8005-155B-499E-A4ED-8AB71A246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F829BA-FC21-4C8B-BC46-A1D0516F7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22E0BB-6CDE-4811-A7CD-60BE7F093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0ACF6-E4E0-4DA9-B3A8-8C8CA2E43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10C6-317E-4D08-8440-29A9CD4C7B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7729A-53AE-4CA6-BC9C-FC2DEFEC2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EF1601-67C4-4A79-B3B2-E149574EAD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C31002-4915-4A34-A913-B7C88CFF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86F000-EE67-4CC9-94FE-5E221904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6D6A79-7FC6-41A4-896F-8B1AEC211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13408F-7F3C-4E1B-88EA-908174FA8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07FF439-E2B4-4280-96F2-66A4B3AD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4DFA0-815C-4AC3-A65B-700D5B940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15E544-057A-4E5C-97C0-85B90B443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85E68B-28E2-4F22-9576-C51F8F4E9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F4263-8EF0-4CD5-9A0D-69737EC5B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BF630A-9859-4D40-BF42-0995BFBF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9AB279-5FAA-4BB3-B94B-47641E43E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42936D-4CB1-4390-B721-8891273F9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4750D6-B448-480B-80C0-EF71D6D76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3408B1-BFE9-4B7F-AA9B-6EA916CE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8CE32-6C2B-44D7-904B-2F4CECB0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60CEE4-341C-413B-8B02-ADD6925BD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EC4102-7B41-4775-A7BE-5EB5AA31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549CBB-5A0D-46A4-A186-AC4CCDCC8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C1500E-34CB-4DD8-ABF1-2D4A26950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1AED1-9BED-42C9-B185-BED052B99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523C32-7F74-48CD-8352-1E49DD232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84190-31D9-4C9C-ABD7-202691427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23C5AF-E453-43B5-B87B-F8E10F275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9AF433-6A7C-40D6-AE01-D799BC2FC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5A8A8-ECD7-4C89-B4A1-6EB80AD6E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B23D45-14AA-49B4-8301-99389319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3F8D9-E729-4376-BD47-0141F633A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7A2A01-9432-4AA4-8745-BFD10246B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3231C-6A2A-418F-AF66-77F4A4258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6EAB8C-DDAF-44DC-9C78-06E0441B1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9801-BD88-45A9-854F-30598945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9FD5B2-CC7A-46FA-B4C2-443D5D7D9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E406F-28D8-4EC7-AEDD-13A886213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D35F47-4195-4B59-8A2C-8E8BDC087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2A67A9-E7E0-4BAE-9AFB-93500037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4F09282-6724-4406-9240-86E9FFCBC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5F5D4A-FB9D-4222-B48E-8F7DFAD59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3A90D3-26AF-4799-9ADE-7B329DF8A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052A06-709B-4905-8112-519C17843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7B532A-2D40-4395-8D89-729A6A2B8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0E80DA-8A2D-49AE-9A52-E2FCB3D7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67C0D-B267-452F-A644-E68179B83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6B245-85CC-4A27-8CC1-6F8D2F36E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73F2CF-421A-445F-AB24-1ED6328A3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9AB77C7-F49E-4BDF-BE80-43A8DC905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6D49758-38EE-4822-A3CF-7D648D75F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463EF5B-49CE-4561-891D-D37DFCD99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659A60-FBC5-43DC-B81A-2F884F10D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EAB212-7DD3-425B-8825-515FB8124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7EF09C-2EB7-4E4A-A60F-60F320ECD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8A75730-113A-4AA3-A1C5-15151B951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88C314-9AE8-4131-878F-65B1D663D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EA4B8-8352-4910-B3BA-29802494B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264A1A2-5C40-465A-AD78-724B1D33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E97A94A-7A9B-425B-9B82-4B1B6D8B1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E717D5F-EBA5-4C11-B26F-F28E3639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5E6FCE-E66F-4CD2-A815-52345CCE9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1B33AD5-E62D-48C9-9BFF-7D46F2B20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83FC640-2C4A-4B01-B271-96134BB3F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21CFAEF-A491-4A1A-B82E-E7670BEEA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9D46E5B-7246-4488-81D7-8D047DA6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C2B8FB-EC4E-45E9-9A23-A028DDD3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38E689-9350-4E18-83F5-755F965FE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57871-50A2-4BC7-B6F7-89BC766D3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DE950-95B1-4401-B73A-5A083BEE1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1800B7-5AAA-4A58-B83C-83D8D5DF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ED4FC6-BBBB-42DB-99C9-D2957E82F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A50F50-4A31-41DB-BA7A-3BC52EA36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9BAC3B1-4036-4681-AE82-5D71EECA9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F2542C-F020-4BE0-9981-CF4A2D236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CB4E70-9B43-4B97-9928-245211A0E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25D5F-E78B-44A8-9BFF-139FD875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2D1C93-CD93-48A5-B48C-5AED42082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EA1DB0A-CC58-495E-B6C5-6961F50E7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96F3-59A6-4C44-8014-78239B6A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D3D221-D23F-4094-87DC-F44343513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00F5DF-FF77-434C-8CB4-E809A565C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AEAA74-8A27-454E-8BD3-EC78E1D8A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88C181-79BA-4B90-977F-8BC411951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738D31-5803-4EBE-B6A9-4C8521F5F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DE82A9-2FBE-41B2-A8A2-BD47C52B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3132D9-BC06-432C-A8D6-45F79A98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1DCE4BB-807D-4D1F-A1BC-4B5EE80D6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A77E8C-B5E7-4B5B-BD5B-9E4BB38D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E88E37-79EB-4822-AE3A-6BA1ABCE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C8DC-ED88-401F-A051-C24D6159B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DC4E-617E-4B37-AF93-ED0DBD291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01BD7D-378F-4719-B445-324132F8D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138AF-2874-46A5-8EC7-9F7BA0444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AF346F-EB66-423A-BFD4-5A3E30F01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D0B748-23EA-4CD3-8E1A-B9E9F540F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D43773-2773-4F40-A338-99009144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1D3649-A676-4953-8388-B7A7BA31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A35E76-D94B-4B0F-BDBA-E16312C8C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FD0AFB-D5A8-45A6-9B1E-88692A3C7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C4E563-D97F-4008-9D72-171A98D1D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FBDE7-28CE-4F69-82DD-44AFA37A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F41BD-CCB7-4C40-91D4-4E907F1E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623914-7DD2-42EA-989B-E95A0FFAC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8DEDF6-1ADF-4869-83E5-34887A4F8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4FDC55D-5DD0-467A-A020-8D6DCAADB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5FC33A-23EE-425D-80B3-60B2E1599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BCFC91-1AEC-46EC-8469-DDCF10AC1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49E3956-9883-4555-9481-4D420B585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C3542B-EEBF-433A-BE40-A752B4FE6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F7CDF2-55FB-4F0B-B8DD-0907653DA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17D5C3-FDBB-4534-A346-045C8AAAF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D5E9877-068F-48CC-9D99-469553CF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3CEEB-C36B-4D3B-AA04-8FA5460A0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08B440-B8EE-4ED1-93C3-6C37C679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56362FD-8853-41AD-8D42-540C38691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C5E15F6-A341-4C8E-BDD0-97A4CED44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3544C8-570E-42C1-B86C-1199AFB9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F8EB341-3D65-446F-93FC-92C0156E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D5B3984-FFCF-4882-AC02-61589E04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9E78DA-5DF3-4276-9751-BC427A74C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8A0C44-FE2D-434D-90F5-F0319A5B48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1B8F102-1081-4A34-BC4B-5CFAC5365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DBEF15-35D2-43EE-9ED2-618FF564F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E1FE-C202-42D7-B321-A70BCD2F6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47FF753-B558-45C3-9167-4BC314704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A72435-3C95-4FE6-96D6-836D24213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CFB921-0650-4B77-921F-86EDECD9B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DC696B-74BF-4ECA-ABC9-8FC70C07A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04B499-F657-4931-BFB9-730DC1B90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AE210E-0B5E-405D-B0D3-1FE594B68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B030AA-12F4-4AD8-9C7D-FBA47522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00CA1C8-7389-4ADF-B611-8D634A070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352393-4927-4BF7-9515-1E710AC1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F2AAF1-8C87-4715-B91A-57EEF6EF2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EAFA-5E66-4120-A6C5-3444ACD5B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7BD9C50-93B8-4C9F-AFEB-005466F47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1FDBA8-442C-4ACF-94FB-E9C90AEE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DD2C27-04E9-4B2C-96CA-389BB98BB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DAB762-2875-4E0C-A272-1CB1E5E48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D4EEAD-6882-402C-AA86-55F9F2CD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F03D8BF-6B45-42B7-9C05-A6CAAD127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81E17C-E2C9-4B8E-8128-6014E326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0436625-287D-466E-8EE1-32223549C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154CF6-2006-415D-BEBC-7BCEE40BA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682071-CE5E-4122-9477-46B991B7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3D9292-EDF3-4806-8DD0-5F88C96B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4AB78B4-87AB-4734-B175-FCD3E915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10BD79-A054-493C-BEE9-482AA0D78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C1E2B9-6628-4229-9B99-F5D5DB754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FBC8A7-0810-4681-9AEA-C5D79D9FF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1DB69A-08F7-403F-9E28-8E3D0B4A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50A1A30-992D-4447-8F48-216F88A63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9638B8C-C5D6-4690-9A73-5AD85B1C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F80F7E-373C-4471-BA56-737F5CADC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3A60AA-A4E4-46EF-A07B-8766BFA8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4E35437-69AB-4EE8-BE45-500BEC9B1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C173A-3375-4AE4-81ED-76AE5D67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21C9582-1B77-43F7-9648-5DBB9A4D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3E35002-407C-48AA-AF3E-3786719A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5BBD00-7FFF-48D1-93BA-4039EF24A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9D0CB05-0CCC-4537-A23C-8B3BF9C5A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8DE2A4-33F8-4DD7-99ED-BE7911BE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A6BD00-F847-42D6-A694-7B31BB47E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C5AD6C-501C-42C3-970F-B17FAB963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6C7DB1F-854B-44AC-8179-FE583BBCB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42CCDD-4DEA-4409-9781-8EEF02B4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DD9D3C-0992-4648-9E1C-674A27631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9E1BF-1D7D-4723-AFDD-743F56275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D18C6E3-2C68-4247-8AEC-9FB6322D2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B86165F-CBC1-46E2-A7E6-41A2D433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5522C4E-B154-49B1-810E-667FCD275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5973553-64B1-46C3-A4F9-BA5F2004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764EA7-16F0-4D78-8D5F-CC7C24C7A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3AD8E8-F674-428A-A1A8-D476FAAA6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7FA49B-F1E3-4A1F-B470-D718DBF15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BA3D0-0783-4518-8A5C-1CDA9D827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0F806-9C5C-413B-846E-46F3247A6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7F89-E204-404B-87F2-F542B479E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2A1E6-DFA9-4777-8015-9E6914C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E2B0B-EE49-46B3-BF52-18E90D18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87A9B6-26E9-4961-AF0E-71EAB70A6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46FE2-51D5-41DC-B8D7-83218DDA2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DFEFF2-D5A9-4B1F-9030-E5F052A41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77A72-B42A-4091-8018-E38960C40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AB7D02-2D6D-4EB7-A099-8CE7494EA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6C6B8-37B8-44FF-AD22-6A5DC86D1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CF9F74-E23C-4034-B7A7-0F0C45852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0A76F-67AD-48AA-A8F1-BA55618D3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E26DB-CE45-40B7-9F01-736B05ED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72137-EB23-4426-845E-839D31696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31EC89-F33F-472D-991D-CF8E3ABFE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8BF04-5CC0-4F87-9D6A-ED0F32512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8F0174-1619-4F7C-B0A5-5D53EDF7D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93F8A1-295B-4C70-9BCE-C35C7C30F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58BA19-04DF-4FDA-8A03-B6C50BBD3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59FA5-240E-44E5-BC74-A142AA775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996D59-B4DF-4AD1-8D17-D697141A5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75E26-1E26-4C79-B0C3-038DFDCB3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C59B31-83CF-4831-92DE-31AF0B98F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DEDC-CAAD-4953-A67C-091A20B2E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3BAAD-D0D6-4865-A38C-380C659E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F060F-9683-4334-ADA2-83679B12D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CE388-F5E3-4D0A-9858-BD36A70CF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15300-815D-46D9-A64F-906A71C14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4252E-34D3-4E07-847C-9820697C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471A30-BADB-4D54-AE01-72EF20FE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E7C60C-FBC5-49D7-A924-C1AE21B31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8893C-D95A-4C3C-890C-2E3FE0941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A522F5-B465-46DD-8300-4F8A94E39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B643F1-259D-4FA9-B8CE-F1A75F768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15CE-C6DE-44C4-8022-BD422584E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D9A19-11B2-4752-9EAE-80F69EB7C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B295C1-F121-4E8B-BB5C-CFCC432F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968E53-8184-4622-89B0-1FFFECF5D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DD9816-C24C-4D7D-8494-F224AD2DE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78D6A-4D94-4F49-9352-2A7EE43CD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3BEB9F-1634-4000-A6DA-8C227294E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958ACF-A282-4C3B-A939-B1B6BD3D5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210FF9-A421-4501-A291-DA626D748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600CF1-5E41-46F4-827B-B6F81B4C6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5C7EAA-660F-41D3-ADB1-C378A452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ED6F-5EDC-48DD-A37A-C6FC66D3A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93A5D-D8AF-49C0-8FE3-848E209B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C2C288-777F-4E0B-A083-8E27EDA4E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D10977-DC29-4512-9FC9-5FB86BCD4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D572D0-EC36-43A5-9F6E-B79C0108A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7E0F6-2A3E-4B5F-AB00-4930AAC4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8D8AC6-8B36-42C2-B99B-E58AC49CE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8A0CA1-2000-47B7-90DC-CD91298EC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6B7995-8996-443E-91AD-03849B88C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D0F40D-2B27-4D1C-9D0F-70057290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E44A36-5816-47B0-B6C1-7AB32E82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7EE-8312-412B-9E8C-BC7EEB57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B5F1F-3BFA-4EEE-BD95-58AFEB586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EA14A6-3420-4B35-B3E0-C6CBDA4E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AB70C7-4EEA-4547-BB1A-B912C13D1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A6133-F8D0-41E8-B0CF-30018A52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22C5E8-2F4C-4E42-A7EE-81D7342CD7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D1902C-EF31-475D-A587-0ADDD6B9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29168-16BB-4909-9794-B9715DEED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4AD430-BC77-4E8E-AC3E-D02E26E06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CC834B-3627-4DB1-A8FC-2CF49994F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D3326F-7F40-45C0-9DD3-53B09BC31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EC1E-078E-45D7-A6DC-84DF1B53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613521-1A7C-4158-881D-11BC7C65B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A85645-9D90-4D0A-B9D2-70F33E72D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665B95-F4D6-4464-94FA-578F80D3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5466A0-6DA7-4364-BFD5-B788C8BC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CFCECF-808B-400B-ACC6-123DCA3DA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F42810-572F-43CB-97F5-4F531DB52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44D134-8B1C-4587-9477-428743747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4B2BD7-700F-4DC6-8E79-1CAC7BCCC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766069-534D-45A6-AD34-97A23889D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2E542D-BC1C-4F0F-8A31-EC6FD78B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A4018-98FB-4954-A874-9D23438A63C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C620-2908-4304-8420-E42BCEFEE0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2AD0D-81F2-48E7-A2C4-86CDCC3175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5FBD-C338-49B2-928E-DEEF000349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2CB67-2528-4790-88B1-97AC92DB1AB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2E666-9CDF-42FF-BEFE-B2D4771154F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BD43D-4FF7-4063-BA37-EA610E8EAB1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77E4B-5E2E-4B18-A035-23636E3CF13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2AFB-A595-4D23-A157-E7EF6CC15BA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4F07-EC7B-4AC2-B88E-1BAD4226E8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BD47A-C5C3-4487-A2A7-62B2DC15703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31437-EB39-41E8-8EED-4619B88E8A0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5D4A-C49F-4BA4-A37D-C3A491718E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0D35C-EC77-4104-9C15-6BF1783E2A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4A6E3-B4F9-415A-9896-59AA1A75781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34B4-859F-4855-B57F-2F4523F73D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6CBCA-D8AF-4FF2-9EBC-77A2EDF353C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009181-7FF0-4563-9B72-4AF42CA5757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6EAD9-290F-414D-BF03-DEC259BCA75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DD04-AC73-48B6-9443-21137BBC81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6F93-A1EE-4C2B-985D-3A6DEF8940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B0624-C823-4382-BEC7-8435C09598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C2E9-98AF-4AE2-A82B-527EEC9EEA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867F-3485-4C53-89EA-90F46ACD25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1C69-54E8-449D-B87F-86E3078F81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E00A-83BF-45E4-95B2-5C3C711EFC1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E1A81-FF30-448C-BBF1-7EAD5AB001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83374-528B-4AF0-94CD-22A6B60026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2D06-E360-4900-ACED-D65721DE77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4B5E3-3C57-48DE-8A4A-5F61E6D60A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CC0E7-2AAB-45DA-AA06-ACCC19D22C1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5763C-6B33-4ED5-8671-267D9F05B5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59618-8229-4A32-8015-57D631BD368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7612B-07F5-46A9-97D8-C877A3549D9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8210F-C549-48B0-B04E-63ED1340D6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38DDA-657A-46BB-9461-64A7F21C36C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4168D-53B9-4EC1-81B3-2DABBC5290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D9A44-31A0-46C6-B26E-F911DC4569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C66D-CAB4-4E0A-8E88-4570FEB08E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FD6D7-BE77-4BD7-951C-407B0F2ACA8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AA931-2145-4779-BF92-93000580AA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1261C-F239-4E06-8862-C0C338E06F8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733840" y="2862360"/>
            <a:ext cx="3676320" cy="113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233280" y="1352520"/>
            <a:ext cx="8675640" cy="415296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179280" y="2577960"/>
            <a:ext cx="8748720" cy="4096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179280" y="3198960"/>
            <a:ext cx="8748720" cy="40932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179280" y="3789360"/>
            <a:ext cx="8748720" cy="4096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85680" y="4394160"/>
            <a:ext cx="8748720" cy="4096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179280" y="4998960"/>
            <a:ext cx="8748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7" name="图片 1" descr=""/>
          <p:cNvPicPr/>
          <p:nvPr/>
        </p:nvPicPr>
        <p:blipFill>
          <a:blip r:embed="rId1"/>
          <a:stretch/>
        </p:blipFill>
        <p:spPr>
          <a:xfrm>
            <a:off x="190440" y="1938240"/>
            <a:ext cx="8763120" cy="298152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2"/>
          <a:stretch/>
        </p:blipFill>
        <p:spPr>
          <a:xfrm>
            <a:off x="250920" y="1974960"/>
            <a:ext cx="8713800" cy="40932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3"/>
          <a:stretch/>
        </p:blipFill>
        <p:spPr>
          <a:xfrm>
            <a:off x="250920" y="2593800"/>
            <a:ext cx="8713800" cy="40968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4"/>
          <a:stretch/>
        </p:blipFill>
        <p:spPr>
          <a:xfrm>
            <a:off x="179280" y="3198960"/>
            <a:ext cx="8713800" cy="4093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5"/>
          <a:stretch/>
        </p:blipFill>
        <p:spPr>
          <a:xfrm>
            <a:off x="200160" y="3789360"/>
            <a:ext cx="8713800" cy="4096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6"/>
          <a:stretch/>
        </p:blipFill>
        <p:spPr>
          <a:xfrm>
            <a:off x="128520" y="4394160"/>
            <a:ext cx="871380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5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19240" y="1376280"/>
            <a:ext cx="87055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47680" y="1920960"/>
            <a:ext cx="8790120" cy="477180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2" descr=""/>
          <p:cNvPicPr/>
          <p:nvPr/>
        </p:nvPicPr>
        <p:blipFill>
          <a:blip r:embed="rId2"/>
          <a:stretch/>
        </p:blipFill>
        <p:spPr>
          <a:xfrm>
            <a:off x="115920" y="777960"/>
            <a:ext cx="569448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200160" y="944640"/>
            <a:ext cx="8743680" cy="55339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7885080" y="2463840"/>
            <a:ext cx="1079640" cy="4096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250920" y="3156120"/>
            <a:ext cx="3384360" cy="4093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4211640" y="3832200"/>
            <a:ext cx="1944720" cy="4096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5"/>
          <a:stretch/>
        </p:blipFill>
        <p:spPr>
          <a:xfrm>
            <a:off x="7596360" y="4494240"/>
            <a:ext cx="1368360" cy="40968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6"/>
          <a:stretch/>
        </p:blipFill>
        <p:spPr>
          <a:xfrm>
            <a:off x="3635280" y="5862600"/>
            <a:ext cx="1368360" cy="4096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7"/>
          <a:stretch/>
        </p:blipFill>
        <p:spPr>
          <a:xfrm>
            <a:off x="250920" y="5186520"/>
            <a:ext cx="25207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" descr=""/>
          <p:cNvPicPr/>
          <p:nvPr/>
        </p:nvPicPr>
        <p:blipFill>
          <a:blip r:embed="rId1"/>
          <a:stretch/>
        </p:blipFill>
        <p:spPr>
          <a:xfrm>
            <a:off x="195120" y="776160"/>
            <a:ext cx="8751960" cy="530568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1042920" y="1484280"/>
            <a:ext cx="2592360" cy="4096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7164360" y="1484280"/>
            <a:ext cx="1728720" cy="40968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4"/>
          <a:stretch/>
        </p:blipFill>
        <p:spPr>
          <a:xfrm>
            <a:off x="2484360" y="5573880"/>
            <a:ext cx="3382920" cy="40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181080" y="2152800"/>
            <a:ext cx="8781840" cy="255240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2050920" y="2219400"/>
            <a:ext cx="2808360" cy="4096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7337520" y="2233440"/>
            <a:ext cx="1763640" cy="4096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250920" y="2909880"/>
            <a:ext cx="2881080" cy="40968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8317080" y="2897280"/>
            <a:ext cx="798480" cy="4093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250920" y="3587760"/>
            <a:ext cx="640872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500"/>
                            </p:stCondLst>
                            <p:childTnLst>
                              <p:par>
                                <p:cTn id="61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7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7" name="图片 1" descr=""/>
          <p:cNvPicPr/>
          <p:nvPr/>
        </p:nvPicPr>
        <p:blipFill>
          <a:blip r:embed="rId1"/>
          <a:stretch/>
        </p:blipFill>
        <p:spPr>
          <a:xfrm>
            <a:off x="181080" y="1585800"/>
            <a:ext cx="8781840" cy="36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57320" y="855720"/>
            <a:ext cx="8723160" cy="4065480"/>
          </a:xfrm>
          <a:prstGeom prst="rect">
            <a:avLst/>
          </a:prstGeom>
          <a:ln w="0">
            <a:noFill/>
          </a:ln>
        </p:spPr>
      </p:pic>
      <p:pic>
        <p:nvPicPr>
          <p:cNvPr id="1129" name="图片 2" descr=""/>
          <p:cNvPicPr/>
          <p:nvPr/>
        </p:nvPicPr>
        <p:blipFill>
          <a:blip r:embed="rId2"/>
          <a:stretch/>
        </p:blipFill>
        <p:spPr>
          <a:xfrm>
            <a:off x="244440" y="4921200"/>
            <a:ext cx="865656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404640" y="246240"/>
            <a:ext cx="8332920" cy="64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17:12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